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C3F-0065-4ECD-82CD-CC065912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037E-9928-44BD-B1FD-21AAF347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1597-1E8F-4204-9C15-0AA046E8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802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98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2032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802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98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234E-C232-44B6-A3AA-8018CEFF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B21A-3561-4705-A0A5-277A0B8F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AB02-1C66-4576-90FD-A03D4B41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CAD0-8C0C-48D5-9C88-5C6A7C2A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620B-B24C-45DB-BDE9-4490800B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83CF-982F-48A7-BAC8-4A07374E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0AA5-7B1D-4DD2-A044-C2D7304E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CF0F-9D29-42B9-B63A-3D4F0AC9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7E9-0D86-440A-86B3-514DE736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12AE-6098-4C14-A6CC-6739E276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32E1-B087-4EDD-AEC3-B901AE90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296E-CB6E-4100-AC4C-99F26311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833B-B5AD-4A47-A265-DA83452D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802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398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2032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802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398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C581-4242-4CB2-B00C-6220C345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8373-2ECB-4372-93CC-1E226202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7905-6612-4655-9437-B8BAE289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FF0D-BEE8-4122-9755-1F1E8149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0FD2-21CD-47A7-88C6-7BA69495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9C16-A0D6-4922-9915-ADB80C17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BF1-5B55-45AC-87D3-F367F55B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20A5-169C-4E0B-9A99-A3E4C0C2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6D92E-FD96-41B8-8D9D-381D12EFB263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111320" y="7873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0437840" y="274320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A58D7-B987-49D8-BFF7-A3BFDCF416A9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Τίτλος 1" descr=""/>
          <p:cNvPicPr/>
          <p:nvPr/>
        </p:nvPicPr>
        <p:blipFill>
          <a:blip r:embed="rId1"/>
          <a:stretch/>
        </p:blipFill>
        <p:spPr>
          <a:xfrm>
            <a:off x="2212920" y="4462560"/>
            <a:ext cx="9425160" cy="1646280"/>
          </a:xfrm>
          <a:prstGeom prst="rect">
            <a:avLst/>
          </a:prstGeom>
          <a:ln w="0">
            <a:noFill/>
          </a:ln>
        </p:spPr>
      </p:pic>
      <p:pic>
        <p:nvPicPr>
          <p:cNvPr id="85" name="Υπότιτλος 2" descr=""/>
          <p:cNvPicPr/>
          <p:nvPr/>
        </p:nvPicPr>
        <p:blipFill>
          <a:blip r:embed="rId2"/>
          <a:stretch/>
        </p:blipFill>
        <p:spPr>
          <a:xfrm>
            <a:off x="2206800" y="3200400"/>
            <a:ext cx="91440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3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7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9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371520" y="158760"/>
            <a:ext cx="109854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08080" y="208080"/>
            <a:ext cx="1114884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68200" y="128520"/>
            <a:ext cx="1108872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76040" y="66600"/>
            <a:ext cx="1118088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62080" y="115920"/>
            <a:ext cx="1109484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39680" y="85680"/>
            <a:ext cx="1121724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Τίτλος 1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87" name="Θέση περιεχομένου 2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19240" y="133200"/>
            <a:ext cx="1113768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39680" y="92160"/>
            <a:ext cx="1121724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82520" y="158760"/>
            <a:ext cx="111744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74680" y="158760"/>
            <a:ext cx="1108224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4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89" name="5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1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3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5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7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9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1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9T09:29:30Z</dcterms:created>
  <dc:creator>Βιβη</dc:creator>
  <dc:description/>
  <dc:language>en-US</dc:language>
  <cp:lastModifiedBy>Admin</cp:lastModifiedBy>
  <dcterms:modified xsi:type="dcterms:W3CDTF">2025-10-16T09:40:52Z</dcterms:modified>
  <cp:revision>37</cp:revision>
  <dc:subject/>
  <dc:title>Παρουσίαση του PowerPoint</dc:title>
</cp:coreProperties>
</file>